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47E-88F7-412A-A639-9C6FDA8B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BB9-009A-4455-B921-B8F00D5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2F3-588C-4D72-B0D4-9430A2D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A33-BA16-4D97-9728-9524B13B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46D-27E1-40DC-B837-09641C6F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0CFC-A88F-47E1-BE60-32E4545B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2F23-1AF0-47C9-8F18-10A5EC73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0AEC-9794-4459-B0C2-4A0B556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DE2-F7CD-463D-B326-4A9236B3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8CD9-B5B9-4BCD-AD75-7AC246B7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7901-3D19-4480-A89E-BD304AAB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755-2E06-4B1D-9D48-81EDF24F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6BC3-733B-471C-BBAF-24F00F1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F87C-5673-4C61-86A3-47BCA327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9BAB-70EE-4DD2-9AE2-1DFE949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E71-14D5-4369-BD74-9D17A347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5A99-0633-4844-860B-68E382B9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E631-3543-4928-AC09-2B098B4A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1B40-1FCE-4441-857C-5D2CD65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FD7A-F068-4F4C-A573-7F76566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BAE8-8459-4C41-BD61-93B9C7D8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A3EC-A40D-4793-B11D-9E39E79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99A-1D45-4549-AB4E-15BCF22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61C5-91D2-4A1B-B086-4EEEA0DA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EE16-973C-49FF-8E12-DFF435D2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8036-614E-47F2-B62C-1B23644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5808-E5AA-4188-8916-900736D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6ABF-4BD3-43F8-96C0-E3356797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4A61-A77D-4043-9433-9FAD2E64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95D6-7204-43BC-9913-AC7C091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3E78-D383-4E0D-8B7D-683EF964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7539-EC2C-4C15-A115-BA2F8CD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0962-A393-4C67-BC10-9B5D67AD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3FD-081A-4263-877F-0922C23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9D49-6CD0-40F7-B92C-B67B00E1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881B-29A5-4EEF-BA14-C3F15369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FB61-C792-4920-89F9-DAAA27F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7C65-A877-4E21-A385-4A734E5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80C3-C08B-4FA8-A658-E6B76A1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D151-2672-4489-98BF-BAC655B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1DEC-DFB5-4521-9C0D-82BCD9EE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67CD-BEBC-44CA-913D-F08D7123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69DB-F39F-4608-8761-74DFBC9A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855D-5EDD-47D5-8A8E-EAF865A8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96B-1A86-4807-860B-F4A37D55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9D45-953C-41CB-BA92-FB4585F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6D56-E4BF-4BE4-BE45-FF8B73A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9D4D-460B-449B-AC7D-AF3E699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78AC-3A8D-4B02-9BE9-47D92FF2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B47D-A1F6-4AB2-9D0E-FAD1CF48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94F2-FE01-40D7-93F2-F16D731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336B-E1A4-44CF-9F01-E513B75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2B3B-1AFA-4940-9197-40C6B69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32D5-E49F-4F51-869A-B15EAF2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A0AA-D0F5-4C05-A706-F1185B55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DBA-B99F-460F-B301-46A34F33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53417-5DFD-4370-8666-D0D820ED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9E1-ECF3-44F5-8EEC-4D654DA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5EE-9A3C-4C89-9583-5D65B1D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658-56B2-4533-A99D-EB92C1A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BEA-22E0-4B24-B5DB-D2C73C572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5B3-AEC2-4133-8AFE-D4B56A8C62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02EB-B02F-41F0-B00B-CF72C9D7B7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A38-499D-4A39-94D0-FD31BA8ECF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F18-FCD6-44BF-A4ED-6F553DA67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5" descr="微信图片_20181124201808"/>
          <p:cNvPicPr/>
          <p:nvPr/>
        </p:nvPicPr>
        <p:blipFill>
          <a:blip r:embed="rId1"/>
          <a:stretch/>
        </p:blipFill>
        <p:spPr>
          <a:xfrm>
            <a:off x="241200" y="-41400"/>
            <a:ext cx="4307040" cy="6012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63800" y="3450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郑振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176720" y="23749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66"/>
                </a:solidFill>
                <a:latin typeface="Arial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"/>
          <p:cNvSpPr/>
          <p:nvPr/>
        </p:nvSpPr>
        <p:spPr>
          <a:xfrm>
            <a:off x="3981600" y="4813200"/>
            <a:ext cx="419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藁城区第九中学初中部  龙慧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内容占位符 2"/>
          <p:cNvSpPr/>
          <p:nvPr/>
        </p:nvSpPr>
        <p:spPr>
          <a:xfrm>
            <a:off x="27000" y="2198520"/>
            <a:ext cx="90914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3871800" y="2014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拓展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87280" y="2809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果再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次机会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会如何对待第三只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2" descr="微信图片_20181124201642"/>
          <p:cNvPicPr/>
          <p:nvPr/>
        </p:nvPicPr>
        <p:blipFill>
          <a:blip r:embed="rId1"/>
          <a:stretch/>
        </p:blipFill>
        <p:spPr>
          <a:xfrm>
            <a:off x="5329080" y="2517840"/>
            <a:ext cx="3503880" cy="3511440"/>
          </a:xfrm>
          <a:prstGeom prst="rect">
            <a:avLst/>
          </a:prstGeom>
          <a:ln w="0">
            <a:noFill/>
          </a:ln>
        </p:spPr>
      </p:pic>
      <p:sp>
        <p:nvSpPr>
          <p:cNvPr id="257" name="矩形 5"/>
          <p:cNvSpPr/>
          <p:nvPr/>
        </p:nvSpPr>
        <p:spPr>
          <a:xfrm>
            <a:off x="3873600" y="160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57200" y="251784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平板上推送的文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内容占位符 2"/>
          <p:cNvSpPr/>
          <p:nvPr/>
        </p:nvSpPr>
        <p:spPr>
          <a:xfrm>
            <a:off x="84240" y="3397320"/>
            <a:ext cx="70149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小狗包弟》巴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白鹅》丰子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内容占位符 2"/>
          <p:cNvSpPr/>
          <p:nvPr/>
        </p:nvSpPr>
        <p:spPr>
          <a:xfrm>
            <a:off x="312840" y="2558880"/>
            <a:ext cx="85168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习概括文章主要内容的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文章的思想感情及蕴涵的人生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理解文章过渡段和尾段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5920" y="156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默读文章，完成导学案中的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2938680" y="236520"/>
            <a:ext cx="31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学生自学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可选过程 1"/>
          <p:cNvSpPr/>
          <p:nvPr/>
        </p:nvSpPr>
        <p:spPr>
          <a:xfrm>
            <a:off x="534960" y="2665440"/>
            <a:ext cx="7931160" cy="342432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默读文章，积累生字生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运用圈点勾画法，提取文中有效信息，体会作者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析文章过渡段和尾段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27000" y="1911240"/>
            <a:ext cx="909144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33440" y="2273400"/>
            <a:ext cx="81374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自学情况，对导学案中的内容进行分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2938680" y="236520"/>
            <a:ext cx="31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生生互学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可选过程 1"/>
          <p:cNvSpPr/>
          <p:nvPr/>
        </p:nvSpPr>
        <p:spPr>
          <a:xfrm>
            <a:off x="534960" y="3403440"/>
            <a:ext cx="7931160" cy="140364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互学指导：由组内④③②号同学按顺序发言，组长①号组织发言并总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内容占位符 2"/>
          <p:cNvSpPr/>
          <p:nvPr/>
        </p:nvSpPr>
        <p:spPr>
          <a:xfrm>
            <a:off x="27000" y="169560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5"/>
          <p:cNvSpPr/>
          <p:nvPr/>
        </p:nvSpPr>
        <p:spPr>
          <a:xfrm>
            <a:off x="3497400" y="236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自学检测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920" y="1706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成平板上的题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-42840" y="3078000"/>
            <a:ext cx="9090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</a:t>
            </a:r>
            <a:r>
              <a:rPr b="0" lang="en-US" sz="4000" spc="-1" strike="noStrike">
                <a:solidFill>
                  <a:srgbClr val="222267"/>
                </a:solidFill>
                <a:latin typeface="黑体"/>
                <a:ea typeface="黑体"/>
              </a:rPr>
              <a:t>&lt;</a:t>
            </a: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猫</a:t>
            </a:r>
            <a:r>
              <a:rPr b="0" lang="en-US" sz="4000" spc="-1" strike="noStrike">
                <a:solidFill>
                  <a:srgbClr val="222267"/>
                </a:solidFill>
                <a:latin typeface="黑体"/>
                <a:ea typeface="黑体"/>
              </a:rPr>
              <a:t>&gt;</a:t>
            </a: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课前检测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流程图: 可选过程 8"/>
          <p:cNvSpPr/>
          <p:nvPr/>
        </p:nvSpPr>
        <p:spPr>
          <a:xfrm>
            <a:off x="6200640" y="928800"/>
            <a:ext cx="2562480" cy="63504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: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92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深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3801960" y="23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109440" y="1996920"/>
            <a:ext cx="9090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用一句话概括文章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流程图: 可选过程 1"/>
          <p:cNvSpPr/>
          <p:nvPr/>
        </p:nvSpPr>
        <p:spPr>
          <a:xfrm>
            <a:off x="792000" y="2919240"/>
            <a:ext cx="7419960" cy="186876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楷体"/>
                <a:ea typeface="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法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主语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语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主要人物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事件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5"/>
          <p:cNvSpPr/>
          <p:nvPr/>
        </p:nvSpPr>
        <p:spPr>
          <a:xfrm>
            <a:off x="1035000" y="5221440"/>
            <a:ext cx="72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家养了三只猫，它们或死或丢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对象 7" descr=""/>
          <p:cNvPicPr/>
          <p:nvPr/>
        </p:nvPicPr>
        <p:blipFill>
          <a:blip r:embed="rId1"/>
          <a:stretch/>
        </p:blipFill>
        <p:spPr>
          <a:xfrm>
            <a:off x="363204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234" name="燕尾形箭头 11"/>
          <p:cNvSpPr/>
          <p:nvPr/>
        </p:nvSpPr>
        <p:spPr>
          <a:xfrm rot="20520000">
            <a:off x="1518840" y="4682880"/>
            <a:ext cx="1684440" cy="490320"/>
          </a:xfrm>
          <a:custGeom>
            <a:avLst/>
            <a:gdLst>
              <a:gd name="textAreaLeft" fmla="*/ 122400 w 1684440"/>
              <a:gd name="textAreaRight" fmla="*/ 1562040 w 1684440"/>
              <a:gd name="textAreaTop" fmla="*/ 122400 h 490320"/>
              <a:gd name="textAreaBottom" fmla="*/ 367920 h 49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455" y="5400"/>
                </a:lnTo>
                <a:lnTo>
                  <a:pt x="18455" y="0"/>
                </a:lnTo>
                <a:lnTo>
                  <a:pt x="21600" y="10800"/>
                </a:lnTo>
                <a:lnTo>
                  <a:pt x="18455" y="21600"/>
                </a:lnTo>
                <a:lnTo>
                  <a:pt x="18455" y="16200"/>
                </a:lnTo>
                <a:lnTo>
                  <a:pt x="0" y="16200"/>
                </a:lnTo>
                <a:lnTo>
                  <a:pt x="15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92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深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内容占位符 2"/>
          <p:cNvSpPr/>
          <p:nvPr/>
        </p:nvSpPr>
        <p:spPr>
          <a:xfrm>
            <a:off x="25560" y="1900080"/>
            <a:ext cx="90914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内容占位符 2"/>
          <p:cNvSpPr/>
          <p:nvPr/>
        </p:nvSpPr>
        <p:spPr>
          <a:xfrm>
            <a:off x="217440" y="3784680"/>
            <a:ext cx="90900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67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222267"/>
                </a:solidFill>
                <a:latin typeface="黑体"/>
                <a:ea typeface="黑体"/>
              </a:rPr>
              <a:t>从作者和三只猫的故事中，你得到了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3801960" y="23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217440" y="1800360"/>
            <a:ext cx="88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67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222267"/>
                </a:solidFill>
                <a:latin typeface="黑体"/>
                <a:ea typeface="黑体"/>
              </a:rPr>
              <a:t>三只猫或丢或死，我最难过的是哪一次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"/>
          <p:cNvSpPr/>
          <p:nvPr/>
        </p:nvSpPr>
        <p:spPr>
          <a:xfrm>
            <a:off x="385920" y="2859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三次。因为我冤苦了这只不能辩诉的动物，内心充满了内疚和自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流程图: 可选过程 9"/>
          <p:cNvSpPr/>
          <p:nvPr/>
        </p:nvSpPr>
        <p:spPr>
          <a:xfrm>
            <a:off x="320760" y="4975200"/>
            <a:ext cx="8502480" cy="156528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为什么认定第三只猫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凶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偷吃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贼是第一只猫，他们会怎样为它开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195560" y="3495600"/>
            <a:ext cx="73771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要主观臆断，妄下断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该平等的对待每一个生命，关爱弱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3699000" y="723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感悟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1195560" y="2054160"/>
            <a:ext cx="6406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从猫的故事中感悟到了人生的道理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5920" y="1492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细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50760" y="2079720"/>
            <a:ext cx="9090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67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222267"/>
                </a:solidFill>
                <a:latin typeface="Arial"/>
                <a:ea typeface="宋体"/>
              </a:rPr>
              <a:t>自此，我家永不养猫。”是文章的结尾段，是否可以删去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801960" y="379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"/>
          <p:cNvSpPr/>
          <p:nvPr/>
        </p:nvSpPr>
        <p:spPr>
          <a:xfrm>
            <a:off x="385920" y="4343400"/>
            <a:ext cx="81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结构：总结全文，与开头相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内容：它表达了极其深刻的情感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永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显示了作者态度的决绝。我的良心受到谴责，追悔莫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流程图: 可选过程 3"/>
          <p:cNvSpPr/>
          <p:nvPr/>
        </p:nvSpPr>
        <p:spPr>
          <a:xfrm>
            <a:off x="885960" y="3586320"/>
            <a:ext cx="7419960" cy="65700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67"/>
                </a:solidFill>
                <a:latin typeface="Arial"/>
              </a:rPr>
              <a:t>学习指导：从结构、内容两方面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3:30:20Z</dcterms:created>
  <dc:creator>jiuzhong</dc:creator>
  <dc:description/>
  <dc:language>en-US</dc:language>
  <cp:lastModifiedBy>jiuzhong</cp:lastModifiedBy>
  <dcterms:modified xsi:type="dcterms:W3CDTF">2018-11-25T13:09:36Z</dcterms:modified>
  <cp:revision>54</cp:revision>
  <dc:subject/>
  <dc:title>——郑振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32</vt:lpwstr>
  </property>
</Properties>
</file>